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A3B-7445-4A08-A7C7-42996171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8BE-357C-4937-941E-9722754C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680-D155-46A2-B03B-4F053E60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7FF-8E46-40C1-963D-89A46227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B65-B904-40AB-9009-24858D6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8C3-D459-42C1-B5FC-6F5E55FD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95BF-12B9-42FB-A717-86805A2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81C-54A6-4F97-9A30-1F87492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BF48-F050-4DAB-B195-86425758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0AF-BCD0-4447-9D2E-1E85525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41D-3D6A-404A-A4DA-95834F2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840-60BF-4574-BB83-1BEC3D07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7E5-37B9-4296-9CEF-B99C903C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510-0D75-4C01-BFC0-A8DFAB24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A47E-B9E7-4D63-89DD-0A98E399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EB6D-DED8-4FCA-8130-908EEEEF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D220-109D-4053-9D85-F88266CD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A01C1-BC00-4120-96FE-2E4666BA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C0794-C51E-44C4-88F1-008A89F9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F49DC-5D59-4062-A893-96E4EF03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FD1DF-C533-450D-8FF0-B2B69C4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46647-3B1C-4B6A-B9CF-27A461D9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663-4D44-422F-9B21-2A2AD88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7853B-0EBE-4D8E-8502-311A30F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941B6-F960-4C35-B082-CEFEB83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BBEE8-0752-4302-B022-F4D1908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6B66C-3DBC-4CA2-A88B-F61E4D3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28FD7-8E3D-48E9-BD0A-6F2445B0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D03D6-09A2-40D4-A232-3557F636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3E6DF-4C9E-4EFB-A678-1A0F74E5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3EA82-49F1-4AC1-9691-D5BA5FFC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D8A87-93A2-456C-99CE-DF127AF9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67DC7-9BE7-4BB8-A53E-D7860DAB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E48-A460-4AB1-9D31-79A8F5E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9F88A-9F0A-4BEA-A133-0D9252A9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BDB90-BC85-41D6-B45F-F4394D39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8C3B2-44BB-45B5-9382-7E40E996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F1EB0-25EB-4397-A665-6095FBBA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A8B92-2C1F-41E7-A847-C6A7E2E4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2F726-4F82-44AE-96E2-0284178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E76E0-4E06-4275-92E6-C130D29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FDD18-E01F-46D2-B8BB-C2E4C217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EB98F-2869-414F-BF2B-918E925A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EF408-3044-47FD-A74A-D39EFB23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94E-6B21-409C-8E01-4AC5A1D8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52FAA-2967-4481-A860-068EDF4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0EB2D-3C0C-487D-9811-72AB41A1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72B8A-7299-4F1C-A57D-A4551BE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77452-BE3E-4546-9020-D51296C6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9F674-AFD6-44D1-8C36-B46A3C7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C730A-27D9-4C6E-8C94-39C08A8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7222F-AA7F-4205-B4D8-5E76725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FC242-641F-4B71-BD81-29D8D92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4029F-DC00-4CFE-A2C2-DCC8EF64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2BAD5-2083-4449-9642-229CAA49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945-6449-40FB-85B2-65FB350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27C2F-6967-4CFE-8E59-B931EC4D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F4D1-9105-4301-A6FD-E28E1978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610F-4666-4617-B40F-59AF3B50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DCFBD-6DC3-4F93-B2C6-1DDB6AB5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2AF65-4B18-4846-8726-2A174BA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3667-EC4A-46C4-9F7F-756D884B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928F6-F22C-4F8B-B289-11B2A949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3BC15-4B8F-49DE-A33D-9A0275E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04D47-5C2D-4B8B-92D6-A37BC23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BC2E-11D8-421B-96A6-70013B8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603-E097-4789-8C90-6D15427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73B0-CA84-4278-9433-621010F0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EF59-56F2-4FEC-B696-A03B90F8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65C5-61B4-41DD-B598-60E3C8DC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34686-6795-4A90-BE1E-B722B99E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4C09B-01D2-4466-9D59-CECE1428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98088-2E21-47BB-9422-3C6962D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11E2D-8D81-48E5-98AA-1AAD9E3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6962E-4E71-4A39-AE17-645EAE26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F64A6-7111-4007-A077-24BC930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B32ACC-0125-4B67-BC3B-D6DB84C7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5B1-BD3A-44B1-822A-5B08713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417C9-364E-47E3-917B-D82140E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7AEB7-B4BE-456E-8A9D-9F1F04E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FC937-487D-47C8-812E-76E72D5B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96F66-A248-47F5-A692-62E967E5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49F15-62C7-4E94-BB40-5D223F0A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4F1C0-81D3-4179-A924-811836C3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0095-7B2C-4CE8-A8EC-107A077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1311E-D963-4E19-A26A-9585647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FCBD9-E9F1-4BD3-9C2D-C24B428C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AD07-FD62-4D57-996E-E7F1102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8BB-3B2E-4340-93A9-D0DDDD7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9305-692A-4C62-998E-FB25D58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11229-7CFB-4EEE-AB55-584F998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464B-13CD-490E-9BEE-503B85B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B3736-CFBD-4902-80AF-7171A3D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426CA-28AF-4D58-8ADD-CB0BE6E7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C185-06B5-450C-8385-A5580611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E2132-61F3-49CF-AEE8-42512BAC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DC91-499B-4F5A-981B-FC4B3B42FB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7520-CE7C-48D1-B5C8-4E63A311DFC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151F-A2A7-47C2-9077-E5F34BE5FC2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341D-2F6D-440A-8788-10E21949B6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2030-B4FE-4AF9-BB13-7EB400905B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74D7-CA38-463D-8722-6D8C572BD51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AB74-14AE-450F-9E26-BE9A2B7C5F3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8BE-8150-4407-BFAD-8BB06A5BBB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GENERAL GUIDELINES FOR WRITTEN WORK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English 12 – Mrs. Vest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 Handwritten Assign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ouble space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se loose-leaf, college-ruled pape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se blue or black in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write on the bac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ad all papers using MLA styl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rst line, flush with left margin – Your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line, flush with left margin – Your instructor’s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line, flush with left margin – The course nam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line, flush with left margin – The due date (dd mm yyy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 ALL pages, upper right-hand corner – Your last name followed by the page number (1/2 inch from the top of the pag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For Typed Assign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uble spa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t margins at 1” for top, bottom, and both sid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12 point Times New Rom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white typing pap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ype on the bac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ad the paper using MLA style as previously explain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eneral 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Neatness counts!  If you make a mistake, use correction fluid neatly.  Messy work is INEXCUSABL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lway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put your final copy on top.  All notes, planning, rough drafts, etc. should be stapled to the back.  I grade what is on to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very essay MUST have a title.  Your topic is not your title.  Do NOT punctuate your title!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ways use PRESENT tense when writing about a literary work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lways turn in your rough draft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4:28:31Z</dcterms:created>
  <dc:creator>pcoles</dc:creator>
  <dc:description/>
  <dc:language>en-US</dc:language>
  <cp:lastModifiedBy>pcoles</cp:lastModifiedBy>
  <dcterms:modified xsi:type="dcterms:W3CDTF">2009-01-25T19:54:52Z</dcterms:modified>
  <cp:revision>1</cp:revision>
  <dc:subject/>
  <dc:title>General Guidelines for Written Work</dc:title>
</cp:coreProperties>
</file>